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E36E-817E-4B77-9A5F-6EB340EB8A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A919-3D4F-4BCF-8F34-025D1B3B9F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1A31-930B-4779-96F7-62B3749797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CEF-F59E-4686-9231-9228666561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243F-BCFF-4804-8BD4-44E3F7BFC1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EC40-E610-41DA-9A46-463D05E7193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06D3-91EE-452B-B276-97E85CFDFE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0451-D40C-4C8E-87EF-C2A6F1C7B1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9AA1-B56A-4653-B42C-32C2EF1EF1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DE151-7974-46F3-AD5A-8F31611FCF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F4D-FE66-4EFC-A7CD-D3659583F3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A6F-6F0B-4F8D-AD5E-A2DAB7505D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847-C0E3-41A9-BC4A-240CEF6B8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EC4-BE7F-4BDD-B188-6494E698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4EB-41A8-4190-B047-C3259160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CFB-61C7-4EA3-B73E-20206213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C544-A50E-4984-9B52-9DFBEE78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3524-B546-4EF5-9B63-A7CF85A6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D48D-E00A-4B4A-8B70-0FCEA9E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047C-3F8E-4392-9D46-153DC9A8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7C00-9565-4E5A-BCD9-7A12C083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4A57-923E-4702-8265-2B423F6D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CFFC-FDCB-49F7-815E-061B0925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F75-4AFE-43A1-8604-1FBE1E9D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9BBA-8F46-48C1-BEE2-23D63CCB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EFA3-23F5-434A-99E4-8C9ABF0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92FB-D7DF-49DF-94FD-D0A38A46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A5B8-B2F3-4AD5-88B6-09B60B94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90B4-5B57-439B-8FC5-00521220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52FD4-30FF-4102-BE01-94252896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6FE6A-D863-44F9-A120-C4E247A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0C7C-F8AD-4604-A67D-37A4ED96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550F5-3D76-42F2-9A00-E376FDE1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FEAD-9F6A-4799-9FAA-CC36D626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B95-800F-4160-A678-B49EF83A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94B5A-23C8-4FFF-97B3-8B30BD91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BFDA-19AA-4038-8B95-A0DBAEC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41959-7CFE-4E65-ADDA-24D69C95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E69E3-453D-46A3-8BD7-94FD262C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70A7-4C19-44E0-B6F1-DE0B00E8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4E7B-C58A-4567-AA96-53A39B93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6766-5C18-4470-B7D1-0D00CBEE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80350-4373-4F03-9C8E-AC956E8F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32250-BC6B-47CB-99F0-EFEA936D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1E75-672D-474D-A996-25EDAE83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F24-626B-444F-BC97-8B64BBA5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E9C5E-6F31-489F-8B2D-33C3F431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9FED-1460-4D46-A2EE-D293F0BC4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D78DB-669F-43D9-9A13-F833EC19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01C6-BA45-4293-B0E0-61502613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835C5-C5C6-4B1B-B1AF-A6D48A7C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A9C10-63B8-441E-883D-7C04201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09F5-3B77-4CE3-A001-54AA46EA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E80F4-4F79-4C8A-9D03-F2058B9D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7E10A-A6D5-4601-AC69-68BC5717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C2CF4-2D87-403D-9C0A-24804C2D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49C4-F2F3-41B6-85B0-5541CA9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77A6E-43A2-4B94-B579-918E417B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7524-24BE-4697-A1A1-F2BF52BD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535B0-8E48-47C9-B55C-334BB563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11FDC-A66D-41B8-A6A8-7133EDB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18765-6B02-46FE-89B2-CAC2909E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0D932-58DE-40B2-B630-DC065167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C8E14-86F0-4391-8920-131B9E5F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9CD1-3238-4A71-B81E-BD6C4030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747E6-3875-42C8-8D65-72AD1F8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637F-F7CD-4388-9E1C-E09933BF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674-3433-49D1-9A9E-EF31F2E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3CBF-3CB2-46DE-AC5E-1B095D78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EBEC-7EF4-48C3-A49F-91782CBA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78344-75DE-4140-8E3F-6DF4D2D7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D102-B7A7-4BC6-A1B4-611BBB67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D4117-7C82-4396-A4BE-8E74C6D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99E53-C5C5-45C6-A088-65573335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D767E-44F9-47FF-B2C5-2A548C0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3B02-C735-4D55-83ED-E8E3D937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E916A-766B-4FB7-95C4-E8B562A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572AC-6FA5-4232-955B-BB6BC2DF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C51-13A5-4354-99C5-2BB819B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BFD9-15A0-4BC5-B7D6-E4B1FC92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58EBC-0C83-425F-9F6B-8B843E58F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43902-7C18-4D5E-A8BF-63D044F4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5B56F-4DE3-4CA2-98E6-28307138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75EA7-9B4D-4C37-8D8F-9973A0D0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79596-2455-442A-97BE-DDC73E95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6536B-741A-457A-9BF3-60D8DBA6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52884-2D8A-423D-8991-BC9DA04C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9CFC-8221-4F71-B059-5C73FF86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10A1F-460D-4467-98FF-7FFA7FF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1117-DE4B-4792-8B8D-53F4AEE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E599E-C8B0-4D16-AEB0-5C5D01B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CCE93-09DE-4FB2-984D-1672ED83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FAFEF-61A9-4813-8870-D191489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AA9E9-51CB-4C90-8B79-85D423C3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3B8EB-BCCC-4DED-B71C-A81526E7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EAC-28D2-44F3-AE09-36C63E0C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5AC2-607E-4A81-81E4-1B63E4ADB333}" type="slidenum"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2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3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CDC-885F-4DB9-A1EC-A1749306E476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807D-48CF-4736-B256-095B99AC94D7}" type="slidenum">
              <a:rPr b="0" lang="en-US" sz="1200" spc="-1" strike="noStrike">
                <a:solidFill>
                  <a:srgbClr val="79551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28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29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EC8A-0BBE-480B-AAFB-DFD6CBE647C8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73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74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535D-272F-43BB-A83A-0FC1ADA7302A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9968-30FF-4F5B-B8A7-72F776FF8C22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0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5C8-F357-4833-BE1D-B1B3BED0B0A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wp.wikispaces.com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wyorker.com/online/podcasts/fiction" TargetMode="External"/><Relationship Id="rId2" Type="http://schemas.openxmlformats.org/officeDocument/2006/relationships/hyperlink" Target="http://grammar.quickanddirtytips.com/default.aspx" TargetMode="External"/><Relationship Id="rId3" Type="http://schemas.openxmlformats.org/officeDocument/2006/relationships/hyperlink" Target="http://redstudio.moma.org/podcasts/2006/" TargetMode="External"/><Relationship Id="rId4" Type="http://schemas.openxmlformats.org/officeDocument/2006/relationships/hyperlink" Target="http://www.moma.org/collection/browse_results.php?object_id=79298" TargetMode="External"/><Relationship Id="rId5" Type="http://schemas.openxmlformats.org/officeDocument/2006/relationships/hyperlink" Target="http://mps.mpsomaha.org/willow/radio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odictionary.com/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323232"/>
                </a:solidFill>
                <a:latin typeface="Verdana"/>
              </a:rPr>
              <a:t>Podcasting</a:t>
            </a:r>
            <a:br>
              <a:rPr sz="32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ersonal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</a:t>
            </a: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n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emand </a:t>
            </a:r>
            <a:br>
              <a:rPr sz="2800"/>
            </a:br>
            <a:r>
              <a:rPr b="1" lang="en-US" sz="2800" spc="-1" strike="noStrike">
                <a:solidFill>
                  <a:srgbClr val="323232"/>
                </a:solidFill>
                <a:latin typeface="Verdana"/>
              </a:rPr>
              <a:t>broad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asting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1496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etsy Wo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Milford High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woods_b@milfordschools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3"/>
          <p:cNvSpPr/>
          <p:nvPr/>
        </p:nvSpPr>
        <p:spPr>
          <a:xfrm>
            <a:off x="457200" y="175248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ll Richardson’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Blogs, Wikis, Podcasts and Other Powerful Web Tools for Classroom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Book Recommendation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3"/>
          <p:cNvSpPr/>
          <p:nvPr/>
        </p:nvSpPr>
        <p:spPr>
          <a:xfrm>
            <a:off x="380880" y="2133720"/>
            <a:ext cx="8382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’ll post all of our ideas on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owp.wikispaces.com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3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How Could You Use Podcasting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3"/>
          <p:cNvSpPr/>
          <p:nvPr/>
        </p:nvSpPr>
        <p:spPr>
          <a:xfrm>
            <a:off x="990720" y="1752480"/>
            <a:ext cx="731520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links and materials available at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owp.wikispaces.c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Web 2.0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838080" y="198108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eb 2.0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about publishing the content on the web, not just consuming it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eb 2.0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about collaboration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eb 2.0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twenty-first century writing involves more than paper and pen and more than Microsoft Word or PowerPoint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2 Golden Rules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685800" y="17524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hen using new technology in the classroom, expect something to go wrong.  It always does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762120" y="3581280"/>
            <a:ext cx="632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. When using new technology in the classroom, have students work collaboratively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533520" y="68580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at is podcasting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Title 1"/>
          <p:cNvSpPr/>
          <p:nvPr/>
        </p:nvSpPr>
        <p:spPr>
          <a:xfrm>
            <a:off x="533520" y="182880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ere can I find podcasts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533520" y="297180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How can I create a podcast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itle 1"/>
          <p:cNvSpPr/>
          <p:nvPr/>
        </p:nvSpPr>
        <p:spPr>
          <a:xfrm>
            <a:off x="533520" y="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at is podcasting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odcasting+in+Plain+English.wmv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Where can I find podcasts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TextBox 2"/>
          <p:cNvSpPr/>
          <p:nvPr/>
        </p:nvSpPr>
        <p:spPr>
          <a:xfrm>
            <a:off x="1195920" y="1981080"/>
            <a:ext cx="4967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New Yorker Short Stories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Grammar Girl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TextBox 3"/>
          <p:cNvSpPr/>
          <p:nvPr/>
        </p:nvSpPr>
        <p:spPr>
          <a:xfrm>
            <a:off x="1125360" y="3200400"/>
            <a:ext cx="401508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MoMA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OOF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b9f25"/>
                </a:solidFill>
                <a:uFillTx/>
                <a:latin typeface="Verdana"/>
                <a:hlinkClick r:id="rId5"/>
              </a:rPr>
              <a:t>Willow Web Radio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is I Believe”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This I Believe Kara.wav" descr=""/>
          <p:cNvPicPr/>
          <p:nvPr/>
        </p:nvPicPr>
        <p:blipFill>
          <a:blip r:embed="rId6"/>
          <a:stretch/>
        </p:blipFill>
        <p:spPr>
          <a:xfrm>
            <a:off x="4876920" y="5562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49758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itle 1"/>
          <p:cNvSpPr/>
          <p:nvPr/>
        </p:nvSpPr>
        <p:spPr>
          <a:xfrm>
            <a:off x="457200" y="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More Recommended Podcasts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533520" y="11790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Arial"/>
                <a:ea typeface="DejaVu Sans Condensed"/>
                <a:hlinkClick r:id="rId1"/>
              </a:rPr>
              <a:t>Podictiona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Just Vocabulary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Princeton Review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Rhetoric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merican Rhetoric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Educational Podcast Network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http://www.epnweb.org/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Smithsonian Education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DejaVu Sans Condensed"/>
              </a:rPr>
              <a:t>http://www.smithsonianeducation.org/educators/lesson_plans/language_arts.html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tle 1"/>
          <p:cNvSpPr/>
          <p:nvPr/>
        </p:nvSpPr>
        <p:spPr>
          <a:xfrm>
            <a:off x="533520" y="380880"/>
            <a:ext cx="8183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8d3e"/>
                </a:solidFill>
                <a:latin typeface="Verdana"/>
              </a:rPr>
              <a:t>How can I create a podcast?</a:t>
            </a:r>
            <a:endParaRPr b="0" lang="en-US" sz="3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609480" y="182880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wnload Audacity—free audio software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actice recording and editing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nk about copyright and fair use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d a place to publish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rget your audience and let them know about your podcast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3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1:27:07Z</dcterms:created>
  <dc:creator>Betsy</dc:creator>
  <dc:description/>
  <dc:language>en-US</dc:language>
  <cp:lastModifiedBy>Betsy</cp:lastModifiedBy>
  <dcterms:modified xsi:type="dcterms:W3CDTF">2009-09-12T00:53:49Z</dcterms:modified>
  <cp:revision>88</cp:revision>
  <dc:subject/>
  <dc:title>Writing and Technology</dc:title>
</cp:coreProperties>
</file>